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BCE-7616-4269-8F96-FF4463C3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0BA-EC11-4FE6-8DD5-4BEDE19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E12-0650-4DFD-B3A0-1469A05F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41D-B6AD-44BB-BF47-22345F1A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42F-3187-4889-9CB4-FBDE68C9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CB1-D882-439E-BA5E-B15A78FB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4A4-35DE-4B60-BA73-A68247AB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2CD-4038-40D4-B771-4188B6E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A3C-24ED-4857-89BA-257EE35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DD2-1208-44EB-A075-8FF065C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C06-E9C5-4768-8C4C-7603A61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B30-4ED4-4B3D-9619-2CEE505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8F8-96E1-4E2B-B849-FE943571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52640" y="1467000"/>
            <a:ext cx="5238720" cy="39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808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VOS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6858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OW THE RED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rm central square"/>
          <p:cNvPicPr/>
          <p:nvPr/>
        </p:nvPicPr>
        <p:blipFill>
          <a:blip r:embed="rId1"/>
          <a:stretch/>
        </p:blipFill>
        <p:spPr>
          <a:xfrm>
            <a:off x="1752480" y="131436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457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 CENTRAL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457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ATHEDERAL   OMSK,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03568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228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RUSSIAN ORTHODOX  OMSK,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20120" cy="457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28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 R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619280"/>
            <a:ext cx="5333760" cy="361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5335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nisey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74880"/>
            <a:ext cx="6782040" cy="4748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5120" y="228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BAI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47:28Z</dcterms:created>
  <dc:creator>calistusezeokafor</dc:creator>
  <dc:description/>
  <dc:language>en-US</dc:language>
  <cp:lastModifiedBy>calistusezeokafor</cp:lastModifiedBy>
  <dcterms:modified xsi:type="dcterms:W3CDTF">2008-11-25T17:09:14Z</dcterms:modified>
  <cp:revision>6</cp:revision>
  <dc:subject/>
  <dc:title>Slide 1</dc:title>
</cp:coreProperties>
</file>